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3.jpeg" ContentType="image/jpeg"/>
  <Override PartName="/ppt/media/image52.jpeg" ContentType="image/jpeg"/>
  <Override PartName="/ppt/media/image13.png" ContentType="image/png"/>
  <Override PartName="/ppt/media/image50.jpeg" ContentType="image/jpeg"/>
  <Override PartName="/ppt/media/image47.jpeg" ContentType="image/jpeg"/>
  <Override PartName="/ppt/media/image51.jpeg" ContentType="image/jpeg"/>
  <Override PartName="/ppt/media/image27.gif" ContentType="image/gif"/>
  <Override PartName="/ppt/media/image35.jpeg" ContentType="image/jpeg"/>
  <Override PartName="/ppt/media/image1.jpeg" ContentType="image/jpeg"/>
  <Override PartName="/ppt/media/image21.png" ContentType="image/png"/>
  <Override PartName="/ppt/media/image10.png" ContentType="image/png"/>
  <Override PartName="/ppt/media/image36.jpeg" ContentType="image/jpeg"/>
  <Override PartName="/ppt/media/hammer.wav" ContentType="audio/x-wav"/>
  <Override PartName="/ppt/media/image20.png" ContentType="image/png"/>
  <Override PartName="/ppt/media/image54.jpeg" ContentType="image/jpeg"/>
  <Override PartName="/ppt/media/image19.jpeg" ContentType="image/jpeg"/>
  <Override PartName="/ppt/media/applause.wav" ContentType="audio/x-wav"/>
  <Override PartName="/ppt/media/image25.gif" ContentType="image/gif"/>
  <Override PartName="/ppt/media/type.wav" ContentType="audio/x-wav"/>
  <Override PartName="/ppt/media/image22.gif" ContentType="image/gif"/>
  <Override PartName="/ppt/media/image18.jpeg" ContentType="image/jpeg"/>
  <Override PartName="/ppt/media/image15.png" ContentType="image/png"/>
  <Override PartName="/ppt/media/image57.jpeg" ContentType="image/jpeg"/>
  <Override PartName="/ppt/media/image24.gif" ContentType="image/gif"/>
  <Override PartName="/ppt/media/image32.jpeg" ContentType="image/jpeg"/>
  <Override PartName="/ppt/media/image2.gif" ContentType="image/gif"/>
  <Override PartName="/ppt/media/image5.png" ContentType="image/png"/>
  <Override PartName="/ppt/media/image17.png" ContentType="image/png"/>
  <Override PartName="/ppt/media/image12.png" ContentType="image/png"/>
  <Override PartName="/ppt/media/image49.png" ContentType="image/png"/>
  <Override PartName="/ppt/media/image56.jpeg" ContentType="image/jpeg"/>
  <Override PartName="/ppt/media/bomb.wav" ContentType="audio/x-wav"/>
  <Override PartName="/ppt/media/image46.jpeg" ContentType="image/jpeg"/>
  <Override PartName="/ppt/media/image14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4.jpeg" ContentType="image/jpeg"/>
  <Override PartName="/ppt/media/image40.png" ContentType="image/png"/>
  <Override PartName="/ppt/media/image16.png" ContentType="image/png"/>
  <Override PartName="/ppt/media/chimes.wav" ContentType="audio/x-wav"/>
  <Override PartName="/ppt/media/image23.jpeg" ContentType="image/jpeg"/>
  <Override PartName="/ppt/media/image8.png" ContentType="image/png"/>
  <Override PartName="/ppt/media/image38.png" ContentType="image/png"/>
  <Override PartName="/ppt/media/whoosh.wav" ContentType="audio/x-wav"/>
  <Override PartName="/ppt/media/image7.png" ContentType="image/png"/>
  <Override PartName="/ppt/media/image34.jpeg" ContentType="image/jpeg"/>
  <Override PartName="/ppt/media/image37.png" ContentType="image/png"/>
  <Override PartName="/ppt/media/image9.png" ContentType="image/png"/>
  <Override PartName="/ppt/media/image39.png" ContentType="image/png"/>
  <Override PartName="/ppt/media/image26.gif" ContentType="image/gif"/>
  <Override PartName="/ppt/media/image28.gif" ContentType="image/gif"/>
  <Override PartName="/ppt/media/image29.gif" ContentType="image/gif"/>
  <Override PartName="/ppt/media/image30.jpeg" ContentType="image/jpeg"/>
  <Override PartName="/ppt/media/image31.gif" ContentType="image/gif"/>
  <Override PartName="/ppt/media/image33.gif" ContentType="image/gif"/>
  <Override PartName="/ppt/media/explode.wav" ContentType="audio/x-wav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5.jpeg" ContentType="image/jpeg"/>
  <Override PartName="/ppt/media/image44.png" ContentType="image/png"/>
  <Override PartName="/ppt/media/image4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B97-5C43-4557-BD8C-3AD2ECCD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362-DC9B-4825-A96C-9EFBDFDD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F3F-E0CC-45A1-AC33-C891E1C0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EB2-3235-4A80-93B5-872079B7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CFE9-210A-474E-A4C9-E091CD20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5562-73DB-43F9-909B-02F7067B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3FCF-6310-4AEB-90F5-F1124FB8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DAD9-6DB0-4C47-8918-2A29800B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C57D-8B54-4950-AD82-D96D2D59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99D8-CC2F-41C2-B93F-CABCB878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6DD8-6917-4D86-9D80-6DFAF8B2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47E-E5E7-4768-919F-238250B8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9B53-CF65-4770-8B8D-1B121E3E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BDAD-F3AF-4187-9B24-781F5A5D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7B22-B5C8-494D-8387-7FC2D199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F39C-195D-4557-870E-D9B40770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122F-675E-4791-9940-013208F8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158-7869-425B-B535-93F18A67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EE0-1811-4D19-A1B1-1721F0AA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2D8-286F-4924-940E-C542FDE9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1D8-E683-4E27-98DB-7510158B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0F8-9434-4A5D-A110-72FAAFFE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D01-E132-44D2-AEFA-0E364704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9D8-B256-4BFA-B136-288D0368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1A09-F2AF-49A4-AD4A-0D8A64441F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F6EC-D84C-4DF5-98B6-06E185F69C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49.png"/><Relationship Id="rId5" Type="http://schemas.openxmlformats.org/officeDocument/2006/relationships/image" Target="../media/image16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49.png"/><Relationship Id="rId5" Type="http://schemas.openxmlformats.org/officeDocument/2006/relationships/image" Target="../media/image16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49.png"/><Relationship Id="rId5" Type="http://schemas.openxmlformats.org/officeDocument/2006/relationships/image" Target="../media/image16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49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audio" Target="../media/bomb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476280"/>
            <a:ext cx="684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6600" spc="-1" strike="noStrike">
                <a:solidFill>
                  <a:srgbClr val="ffffff"/>
                </a:solidFill>
                <a:latin typeface="Comic Sans MS"/>
              </a:rPr>
              <a:t>Traffic Safety  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Animated Transport - Cars"/>
          <p:cNvPicPr/>
          <p:nvPr/>
        </p:nvPicPr>
        <p:blipFill>
          <a:blip r:embed="rId2"/>
          <a:stretch/>
        </p:blipFill>
        <p:spPr>
          <a:xfrm>
            <a:off x="1835280" y="1916280"/>
            <a:ext cx="475128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Animated Transport - Buses"/>
          <p:cNvPicPr/>
          <p:nvPr/>
        </p:nvPicPr>
        <p:blipFill>
          <a:blip r:embed="rId2"/>
          <a:stretch/>
        </p:blipFill>
        <p:spPr>
          <a:xfrm>
            <a:off x="1835280" y="189000"/>
            <a:ext cx="4881600" cy="504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95280" y="5013360"/>
            <a:ext cx="82803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We must sit in the school bu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Animated Transport - Motor Bikes"/>
          <p:cNvPicPr/>
          <p:nvPr/>
        </p:nvPicPr>
        <p:blipFill>
          <a:blip r:embed="rId2"/>
          <a:stretch/>
        </p:blipFill>
        <p:spPr>
          <a:xfrm>
            <a:off x="0" y="0"/>
            <a:ext cx="9144000" cy="2997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Animated Transport - Motor Bikes"/>
          <p:cNvPicPr/>
          <p:nvPr/>
        </p:nvPicPr>
        <p:blipFill>
          <a:blip r:embed="rId3"/>
          <a:stretch/>
        </p:blipFill>
        <p:spPr>
          <a:xfrm>
            <a:off x="3419640" y="4365720"/>
            <a:ext cx="1984320" cy="1714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0" y="3141720"/>
            <a:ext cx="914400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While riding a bike we must wear a helme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Free Animations"/>
          <p:cNvPicPr/>
          <p:nvPr/>
        </p:nvPicPr>
        <p:blipFill>
          <a:blip r:embed="rId2"/>
          <a:stretch/>
        </p:blipFill>
        <p:spPr>
          <a:xfrm>
            <a:off x="-468360" y="-243000"/>
            <a:ext cx="5184720" cy="3570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79280" y="5013360"/>
            <a:ext cx="871380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Children must sit at the back sea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27 -0.03306 L 0.51198 0.18706 E">
                                      <p:cBhvr>
                                        <p:cTn id="12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Free Animations"/>
          <p:cNvPicPr/>
          <p:nvPr/>
        </p:nvPicPr>
        <p:blipFill>
          <a:blip r:embed="rId2"/>
          <a:stretch/>
        </p:blipFill>
        <p:spPr>
          <a:xfrm>
            <a:off x="3132000" y="476280"/>
            <a:ext cx="6201000" cy="4778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0" y="5013360"/>
            <a:ext cx="914400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rivers mustn't drive with one han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04046E-006 L -0.48091 -0.02289 E">
                                      <p:cBhvr>
                                        <p:cTn id="13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27640" y="189000"/>
            <a:ext cx="2374920" cy="1520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50920" y="5013360"/>
            <a:ext cx="86421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WE MUSTN'T CROSS AT THE RED LIGH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276720" y="2349360"/>
            <a:ext cx="1481040" cy="1200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3645000"/>
            <a:ext cx="5184720" cy="32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60280"/>
            <a:ext cx="849600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620640"/>
            <a:ext cx="878544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WE MUST OBEY THE POLICE'S DIRECTIO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11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524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4508640"/>
            <a:ext cx="9072720" cy="23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9280" y="4797360"/>
            <a:ext cx="878544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DON'T BE A TRAFFIC MONST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979640" y="3213000"/>
          <a:ext cx="4753080" cy="3225960"/>
        </p:xfrm>
        <a:graphic>
          <a:graphicData uri="http://schemas.openxmlformats.org/drawingml/2006/table">
            <a:tbl>
              <a:tblPr/>
              <a:tblGrid>
                <a:gridCol w="676080"/>
                <a:gridCol w="40770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5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5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3503520" y="5340600"/>
            <a:ext cx="18072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15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2028600" cy="215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619280" y="3147840"/>
          <a:ext cx="6552720" cy="3400560"/>
        </p:xfrm>
        <a:graphic>
          <a:graphicData uri="http://schemas.openxmlformats.org/drawingml/2006/table">
            <a:tbl>
              <a:tblPr/>
              <a:tblGrid>
                <a:gridCol w="1054080"/>
                <a:gridCol w="5498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 walk across the street he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8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 should not walk across the street he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p walking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 along the stre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205080" y="5481720"/>
            <a:ext cx="180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15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2120760" cy="2121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35280" y="18900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Picture Option 1"/>
          <p:cNvPicPr/>
          <p:nvPr/>
        </p:nvPicPr>
        <p:blipFill>
          <a:blip r:embed="rId2"/>
          <a:stretch/>
        </p:blipFill>
        <p:spPr>
          <a:xfrm>
            <a:off x="3348000" y="836640"/>
            <a:ext cx="208764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692360" y="2781360"/>
          <a:ext cx="6119640" cy="3867120"/>
        </p:xfrm>
        <a:graphic>
          <a:graphicData uri="http://schemas.openxmlformats.org/drawingml/2006/table">
            <a:tbl>
              <a:tblPr/>
              <a:tblGrid>
                <a:gridCol w="576000"/>
                <a:gridCol w="554364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 should not walk across the street he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 should not walk across the street he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9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p when the car is 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 mustn’t overta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835280" y="260280"/>
            <a:ext cx="5041800" cy="6476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000" y="0"/>
            <a:ext cx="9063000" cy="6453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195640" y="1773360"/>
          <a:ext cx="4536000" cy="4391640"/>
        </p:xfrm>
        <a:graphic>
          <a:graphicData uri="http://schemas.openxmlformats.org/drawingml/2006/table">
            <a:tbl>
              <a:tblPr/>
              <a:tblGrid>
                <a:gridCol w="644400"/>
                <a:gridCol w="3891600"/>
              </a:tblGrid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176" name="" descr="Picture Option 2"/>
          <p:cNvPicPr/>
          <p:nvPr/>
        </p:nvPicPr>
        <p:blipFill>
          <a:blip r:embed="rId2"/>
          <a:stretch/>
        </p:blipFill>
        <p:spPr>
          <a:xfrm>
            <a:off x="3059280" y="191628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Picture Option 1"/>
          <p:cNvPicPr/>
          <p:nvPr/>
        </p:nvPicPr>
        <p:blipFill>
          <a:blip r:embed="rId3"/>
          <a:stretch/>
        </p:blipFill>
        <p:spPr>
          <a:xfrm>
            <a:off x="3132000" y="2997360"/>
            <a:ext cx="935280" cy="1009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Picture Option 3"/>
          <p:cNvPicPr/>
          <p:nvPr/>
        </p:nvPicPr>
        <p:blipFill>
          <a:blip r:embed="rId4"/>
          <a:stretch/>
        </p:blipFill>
        <p:spPr>
          <a:xfrm>
            <a:off x="3132000" y="4076640"/>
            <a:ext cx="935280" cy="100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132000" y="5300640"/>
            <a:ext cx="863640" cy="879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35280" y="476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ich one means give 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403280" y="3068640"/>
          <a:ext cx="5760720" cy="3239640"/>
        </p:xfrm>
        <a:graphic>
          <a:graphicData uri="http://schemas.openxmlformats.org/drawingml/2006/table">
            <a:tbl>
              <a:tblPr/>
              <a:tblGrid>
                <a:gridCol w="676440"/>
                <a:gridCol w="5084280"/>
              </a:tblGrid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1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’t make a U-tur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aroun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059280" y="99864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Picture Question"/>
          <p:cNvPicPr/>
          <p:nvPr/>
        </p:nvPicPr>
        <p:blipFill>
          <a:blip r:embed="rId2"/>
          <a:stretch/>
        </p:blipFill>
        <p:spPr>
          <a:xfrm>
            <a:off x="3348000" y="1052640"/>
            <a:ext cx="2106720" cy="172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332000" y="3068640"/>
          <a:ext cx="5914440" cy="3428640"/>
        </p:xfrm>
        <a:graphic>
          <a:graphicData uri="http://schemas.openxmlformats.org/drawingml/2006/table">
            <a:tbl>
              <a:tblPr/>
              <a:tblGrid>
                <a:gridCol w="693720"/>
                <a:gridCol w="5220720"/>
              </a:tblGrid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park or sto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6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wal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6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ent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driv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187280" y="3068640"/>
          <a:ext cx="6121080" cy="3554280"/>
        </p:xfrm>
        <a:graphic>
          <a:graphicData uri="http://schemas.openxmlformats.org/drawingml/2006/table">
            <a:tbl>
              <a:tblPr/>
              <a:tblGrid>
                <a:gridCol w="556920"/>
                <a:gridCol w="556416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p and wait the train is comin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 walk across the street her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3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dr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pa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43160" y="4869000"/>
            <a:ext cx="180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15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276720" y="1125360"/>
            <a:ext cx="1871640" cy="187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619280" y="3213000"/>
          <a:ext cx="5689440" cy="3200400"/>
        </p:xfrm>
        <a:graphic>
          <a:graphicData uri="http://schemas.openxmlformats.org/drawingml/2006/table">
            <a:tbl>
              <a:tblPr/>
              <a:tblGrid>
                <a:gridCol w="576360"/>
                <a:gridCol w="5113080"/>
              </a:tblGrid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5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 drive this wa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drive this dir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5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e-way traffic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2265120" cy="2265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763640" y="3213000"/>
          <a:ext cx="5832720" cy="3241800"/>
        </p:xfrm>
        <a:graphic>
          <a:graphicData uri="http://schemas.openxmlformats.org/drawingml/2006/table">
            <a:tbl>
              <a:tblPr/>
              <a:tblGrid>
                <a:gridCol w="685800"/>
                <a:gridCol w="514692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make a U-tur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557520" y="5158080"/>
            <a:ext cx="18072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15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348000" y="1052640"/>
            <a:ext cx="2125800" cy="2068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692360" y="3213000"/>
          <a:ext cx="5904000" cy="3240000"/>
        </p:xfrm>
        <a:graphic>
          <a:graphicData uri="http://schemas.openxmlformats.org/drawingml/2006/table">
            <a:tbl>
              <a:tblPr/>
              <a:tblGrid>
                <a:gridCol w="691920"/>
                <a:gridCol w="521208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make a U-tur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348000" y="1125360"/>
            <a:ext cx="2106720" cy="2051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132000" y="907920"/>
            <a:ext cx="2232000" cy="18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1547640" y="2852640"/>
          <a:ext cx="6264360" cy="3647880"/>
        </p:xfrm>
        <a:graphic>
          <a:graphicData uri="http://schemas.openxmlformats.org/drawingml/2006/table">
            <a:tbl>
              <a:tblPr/>
              <a:tblGrid>
                <a:gridCol w="400320"/>
                <a:gridCol w="5864040"/>
              </a:tblGrid>
              <a:tr h="9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drive fa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9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 walk across the stre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st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drive slowly there is a school near 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03280" y="1916280"/>
          <a:ext cx="5772240" cy="4392360"/>
        </p:xfrm>
        <a:graphic>
          <a:graphicData uri="http://schemas.openxmlformats.org/drawingml/2006/table">
            <a:tbl>
              <a:tblPr/>
              <a:tblGrid>
                <a:gridCol w="576360"/>
                <a:gridCol w="5195880"/>
              </a:tblGrid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1224000" cy="1093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1297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979640" y="1916280"/>
            <a:ext cx="1295280" cy="1145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050920" y="5229360"/>
            <a:ext cx="1297080" cy="1079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332000" y="260280"/>
            <a:ext cx="61196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ere can you wait for the bu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403280" y="1916280"/>
          <a:ext cx="5772240" cy="4392360"/>
        </p:xfrm>
        <a:graphic>
          <a:graphicData uri="http://schemas.openxmlformats.org/drawingml/2006/table">
            <a:tbl>
              <a:tblPr/>
              <a:tblGrid>
                <a:gridCol w="576360"/>
                <a:gridCol w="5195880"/>
              </a:tblGrid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1224000" cy="1093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1297080" cy="1189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1979640" y="1916280"/>
            <a:ext cx="1295280" cy="1145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2050920" y="5229360"/>
            <a:ext cx="1297080" cy="1079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332000" y="260280"/>
            <a:ext cx="61196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ere you can wait for the bu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39640" y="0"/>
            <a:ext cx="7777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TRAFFIC SIGNS AND RU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403280" y="1916280"/>
          <a:ext cx="5772240" cy="4392360"/>
        </p:xfrm>
        <a:graphic>
          <a:graphicData uri="http://schemas.openxmlformats.org/drawingml/2006/table">
            <a:tbl>
              <a:tblPr/>
              <a:tblGrid>
                <a:gridCol w="576360"/>
                <a:gridCol w="5195880"/>
              </a:tblGrid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1224000" cy="1093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1297080" cy="1189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1979640" y="1916280"/>
            <a:ext cx="1295280" cy="1145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2050920" y="5229360"/>
            <a:ext cx="1297080" cy="1079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332000" y="260280"/>
            <a:ext cx="61196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ich sign is for Airpo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403280" y="1916280"/>
          <a:ext cx="5772240" cy="4392360"/>
        </p:xfrm>
        <a:graphic>
          <a:graphicData uri="http://schemas.openxmlformats.org/drawingml/2006/table">
            <a:tbl>
              <a:tblPr/>
              <a:tblGrid>
                <a:gridCol w="576360"/>
                <a:gridCol w="5195880"/>
              </a:tblGrid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1224000" cy="1093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1297080" cy="1189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979640" y="1916280"/>
            <a:ext cx="1295280" cy="1145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050920" y="5229360"/>
            <a:ext cx="1297080" cy="1079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332000" y="260280"/>
            <a:ext cx="61196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ich one is for rail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651640" y="620640"/>
            <a:ext cx="3492360" cy="2521080"/>
          </a:xfrm>
          <a:prstGeom prst="wedgeEllipseCallout">
            <a:avLst>
              <a:gd name="adj1" fmla="val -76592"/>
              <a:gd name="adj2" fmla="val 7462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Thank you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250920" y="189000"/>
            <a:ext cx="421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GROUP POWER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</p:spTree>
  </p:cSld>
  <p:transition spd="slow">
    <p:zoom dir="out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4508640"/>
            <a:ext cx="165708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653000"/>
            <a:ext cx="201600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Pedesteria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mustn’t 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653000"/>
            <a:ext cx="223200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Cyclis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mustn’t 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4724280"/>
            <a:ext cx="219564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Cyclists are all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308640"/>
            <a:ext cx="2160720" cy="549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 be care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6308640"/>
            <a:ext cx="2016000" cy="549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are nea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a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6308640"/>
            <a:ext cx="1944720" cy="549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Pedesterians 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3080" y="6381720"/>
            <a:ext cx="1871640" cy="476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Be care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852640"/>
            <a:ext cx="194472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Park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2924280"/>
            <a:ext cx="187164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924280"/>
            <a:ext cx="2232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Pedesterian 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3080" y="2924280"/>
            <a:ext cx="205092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Cyclists can 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8100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Fasten your seat b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981000"/>
            <a:ext cx="223200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Pedesterian Cro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981000"/>
            <a:ext cx="194472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School Cro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981000"/>
            <a:ext cx="2124000" cy="719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n’t p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3789360"/>
            <a:ext cx="865440" cy="431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441440" cy="1268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700280"/>
            <a:ext cx="205092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Roundab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387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40000" y="170028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n’t 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292720" y="189000"/>
            <a:ext cx="1582920" cy="143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932360" y="1700280"/>
            <a:ext cx="223200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n’t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68360" y="2492280"/>
            <a:ext cx="1415880" cy="144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7380360" y="189000"/>
            <a:ext cx="1511280" cy="133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380360" y="1700280"/>
            <a:ext cx="17636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Two way 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00536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Don’t make U 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987640" y="2492280"/>
            <a:ext cx="1414440" cy="1440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43280" y="4005360"/>
            <a:ext cx="190656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Turn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5364000" y="2492280"/>
            <a:ext cx="151308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76720" y="4005360"/>
            <a:ext cx="19796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Turn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451640" y="2492280"/>
            <a:ext cx="1392480" cy="1416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64360" y="4076640"/>
            <a:ext cx="19796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Go ah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3059280" y="472428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5435640" y="472428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7667640" y="4797360"/>
            <a:ext cx="1274760" cy="1657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602136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Air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27280" y="6021360"/>
            <a:ext cx="190836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Rail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6237360"/>
            <a:ext cx="2195640" cy="620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Speed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6308640"/>
            <a:ext cx="1187280" cy="549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Bus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684360" y="4653000"/>
            <a:ext cx="1368360" cy="1254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traffic%20light%20red.jpg"/>
          <p:cNvPicPr/>
          <p:nvPr/>
        </p:nvPicPr>
        <p:blipFill>
          <a:blip r:embed="rId2"/>
          <a:stretch/>
        </p:blipFill>
        <p:spPr>
          <a:xfrm>
            <a:off x="611280" y="620640"/>
            <a:ext cx="2085840" cy="2409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11949849782053089133traffic_light_yellow_dan_01_svg_med.png"/>
          <p:cNvPicPr/>
          <p:nvPr/>
        </p:nvPicPr>
        <p:blipFill>
          <a:blip r:embed="rId3"/>
          <a:stretch/>
        </p:blipFill>
        <p:spPr>
          <a:xfrm>
            <a:off x="3635280" y="3284640"/>
            <a:ext cx="1914480" cy="2247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traffic-light-green.png"/>
          <p:cNvPicPr/>
          <p:nvPr/>
        </p:nvPicPr>
        <p:blipFill>
          <a:blip r:embed="rId4"/>
          <a:stretch/>
        </p:blipFill>
        <p:spPr>
          <a:xfrm>
            <a:off x="6084720" y="692280"/>
            <a:ext cx="2190960" cy="2514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9640" y="3284640"/>
            <a:ext cx="24116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335772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558972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 wa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 rot="2016000">
            <a:off x="-624960" y="2013120"/>
            <a:ext cx="10766160" cy="171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68360" y="5373720"/>
            <a:ext cx="82803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FASTEN YOUR SEAT BELT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80360" cy="6669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24000" y="1989000"/>
            <a:ext cx="8640720" cy="8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RED is at the top STO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7:05:07Z</dcterms:created>
  <dc:creator>AAA</dc:creator>
  <dc:description/>
  <dc:language>en-US</dc:language>
  <cp:lastModifiedBy>HCD</cp:lastModifiedBy>
  <dcterms:modified xsi:type="dcterms:W3CDTF">2011-04-03T13:06:06Z</dcterms:modified>
  <cp:revision>17</cp:revision>
  <dc:subject/>
  <dc:title>WELCOME</dc:title>
</cp:coreProperties>
</file>